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16.jpeg" ContentType="image/jpeg"/>
  <Override PartName="/ppt/media/image9.gif" ContentType="image/gif"/>
  <Override PartName="/ppt/media/image24.jpeg" ContentType="image/jpeg"/>
  <Override PartName="/ppt/media/image28.jpeg" ContentType="image/jpeg"/>
  <Override PartName="/ppt/media/image7.jpeg" ContentType="image/jpeg"/>
  <Override PartName="/ppt/media/image8.gif" ContentType="image/gif"/>
  <Override PartName="/ppt/media/image36.png" ContentType="image/png"/>
  <Override PartName="/ppt/media/image32.jpeg" ContentType="image/jpeg"/>
  <Override PartName="/ppt/media/image30.png" ContentType="image/png"/>
  <Override PartName="/ppt/media/image35.png" ContentType="image/png"/>
  <Override PartName="/ppt/media/image5.png" ContentType="image/png"/>
  <Override PartName="/ppt/media/image31.jpeg" ContentType="image/jpeg"/>
  <Override PartName="/ppt/media/image33.wmf" ContentType="image/x-wmf"/>
  <Override PartName="/ppt/media/image13.png" ContentType="image/png"/>
  <Override PartName="/ppt/media/image34.png" ContentType="image/png"/>
  <Override PartName="/ppt/media/image37.png" ContentType="image/png"/>
  <Override PartName="/ppt/media/image11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4.gif" ContentType="image/gif"/>
  <Override PartName="/ppt/media/image22.jpeg" ContentType="image/jpe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107-4311-45FF-BA0E-49271B2A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1C6-231F-49CC-BD05-E4A140C0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7EC8-CAA7-4CF2-BEB5-7507668F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8B75-40E6-4819-BE60-805FE3BE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C86E-5063-43B5-B71C-B9BC51AF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5CA0-7BDB-421E-9999-CC43BB08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51A6-9094-496B-BC94-AEDEEDAF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8AB4-C423-4211-AD6F-49096143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1ADA-8581-4628-B4CF-9D027D6E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DD90-3AF5-4377-950A-429B16CD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2AF5-DF5D-4A73-8224-0E2530EE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E2FB-9E31-4171-ABDB-1E98ADC9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D3C2-6500-4AFA-916C-1C3E77EB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4022-B903-44AB-8A5B-2BCDBB39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CE9B-F63A-474F-8602-871A95D2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1BC8-288C-4BA0-BE36-2DBEE823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FB11-09EC-4B50-B9F9-97D4D796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E58D-6CE4-4715-AE62-9F2C1B5D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052-1860-43BC-90F8-A676808D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7696-5D87-4F8B-B066-C2031005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FA30-FF16-40E3-B02D-F47CD088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7B3B-172F-4A68-828B-82223E5C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B8B-00CD-400D-ABE0-4053C26C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10B7-F893-4E61-8A00-6598AF5B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EDBD-BE33-4858-96FC-1623BA7A2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6889-0962-47F0-9AF3-D204F629F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onvection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21304"/>
                </a:solidFill>
                <a:latin typeface="Century Gothic"/>
              </a:rPr>
              <a:t>Earth Science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An Introd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66320" y="1752480"/>
            <a:ext cx="762012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F:\Earth Science\Teaching_material\ch. 0_Intro\Topic 1 - Intro\ScubaCoral - Observ-Infer&amp;Rel Density.jpg"/>
          <p:cNvPicPr/>
          <p:nvPr/>
        </p:nvPicPr>
        <p:blipFill>
          <a:blip r:embed="rId2"/>
          <a:stretch/>
        </p:blipFill>
        <p:spPr>
          <a:xfrm>
            <a:off x="914400" y="609480"/>
            <a:ext cx="756936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2" descr="http://cdn2-b.examiner.com/sites/default/files/styles/image_full_width_scaled/hash/a7/86/a786e010654092708e570523e2b36e37.jpg"/>
          <p:cNvPicPr/>
          <p:nvPr/>
        </p:nvPicPr>
        <p:blipFill>
          <a:blip r:embed="rId1"/>
          <a:stretch/>
        </p:blipFill>
        <p:spPr>
          <a:xfrm>
            <a:off x="990720" y="762120"/>
            <a:ext cx="75452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ific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219320" y="304920"/>
            <a:ext cx="68580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ientists group together similar observations and in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makes the study of objects and events in the environment easier to underst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grouping is calle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21304"/>
                </a:solidFill>
                <a:uFillTx/>
                <a:latin typeface="Times New Roman"/>
              </a:rPr>
              <a:t>Classification Syst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914400" y="190512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lassification systems that we study in Earth Science are planets, stars, rocks, minerals, st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5" descr="C:\Users\Owner\AppData\Local\Microsoft\Windows\Temporary Internet Files\Content.IE5\M4A7TLZW\MM900046489[1].gif"/>
          <p:cNvPicPr/>
          <p:nvPr/>
        </p:nvPicPr>
        <p:blipFill>
          <a:blip r:embed="rId1"/>
          <a:stretch/>
        </p:blipFill>
        <p:spPr>
          <a:xfrm>
            <a:off x="5257800" y="3962520"/>
            <a:ext cx="3070080" cy="1933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C:\Users\Owner\AppData\Local\Microsoft\Windows\Temporary Internet Files\Content.IE5\U5EI008V\MM900282884[1].gif"/>
          <p:cNvPicPr/>
          <p:nvPr/>
        </p:nvPicPr>
        <p:blipFill>
          <a:blip r:embed="rId2"/>
          <a:stretch/>
        </p:blipFill>
        <p:spPr>
          <a:xfrm>
            <a:off x="1752480" y="4038480"/>
            <a:ext cx="254160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cientific Metho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k a question (what are you curious about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esis (Use what you know to make a prediction) “I bet you it works this way.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eri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servation and collection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alyz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aw conclusion (Does it support your hypothesis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2590920" y="228600"/>
            <a:ext cx="5553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Accuracy</a:t>
            </a:r>
            <a:endParaRPr b="0" lang="en-US" sz="2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990720" y="1219320"/>
            <a:ext cx="7772400" cy="761760"/>
          </a:xfrm>
          <a:prstGeom prst="roundRect">
            <a:avLst>
              <a:gd name="adj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es it mean if you are asked to record your ans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2"/>
          <p:cNvSpPr/>
          <p:nvPr/>
        </p:nvSpPr>
        <p:spPr>
          <a:xfrm>
            <a:off x="1752480" y="2362320"/>
            <a:ext cx="7239240" cy="11430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 to the nearest ten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3"/>
          <p:cNvSpPr/>
          <p:nvPr/>
        </p:nvSpPr>
        <p:spPr>
          <a:xfrm>
            <a:off x="1752480" y="3581280"/>
            <a:ext cx="7239240" cy="11430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 to the nearest hundre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1752480" y="4800600"/>
            <a:ext cx="723924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the nearest thousan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2195280" y="289548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de3"/>
                </a:solidFill>
                <a:latin typeface="Times New Roman"/>
              </a:rPr>
              <a:t>one decimal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2260800" y="419112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de3"/>
                </a:solidFill>
                <a:latin typeface="Times New Roman"/>
              </a:rPr>
              <a:t>two decimal 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2241360" y="541008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de3"/>
                </a:solidFill>
                <a:latin typeface="Times New Roman"/>
              </a:rPr>
              <a:t>three decimal 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5638680" y="2666880"/>
            <a:ext cx="17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5791320" y="3886200"/>
            <a:ext cx="17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 0.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1"/>
          <p:cNvSpPr/>
          <p:nvPr/>
        </p:nvSpPr>
        <p:spPr>
          <a:xfrm>
            <a:off x="5715000" y="51814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 0.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cientific Not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ientific Notation is the scientists “shorthand”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imple way to write a very small or larg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ard form: 125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ientific Notation: 1.25 X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4875480" y="365760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ic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6248880" y="25146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Changing Scientific Notation to the actual number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at the exponent.  If any exponent is a positive number then I am going to move the decimal that number of spaces 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I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2 x 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221304"/>
                </a:solidFill>
                <a:uFillTx/>
                <a:latin typeface="Times New Roman"/>
              </a:rPr>
              <a:t>Aim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Earth Science and how is it divid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exponent is negative.  I will move the decimal that number of places 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F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2 x 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Steps for Converting From:</a:t>
            </a:r>
            <a:br>
              <a:rPr sz="3200"/>
            </a:b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Standard Form to Scientific Notation 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he location of the decimal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50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Move the decimal point over to the left and stop before you come to the last number.  Count how many spaces you move.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Up Arrow 5"/>
          <p:cNvSpPr/>
          <p:nvPr/>
        </p:nvSpPr>
        <p:spPr>
          <a:xfrm flipH="1">
            <a:off x="4343400" y="3048120"/>
            <a:ext cx="457200" cy="533160"/>
          </a:xfrm>
          <a:prstGeom prst="upArrow">
            <a:avLst>
              <a:gd name="adj1" fmla="val 50000"/>
              <a:gd name="adj2" fmla="val 49977"/>
            </a:avLst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066320" y="11430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Round to the nearest hundredth.  If the thousandths place is a 5 or greater round up/ if it’s less than 5 keep the digit the same.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Multiply this new digit by 10 and raise it to the power to the number of places that you moved the decim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25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If you moved the decimal to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xponent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If you move the decimal to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xponent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666880" y="457200"/>
            <a:ext cx="42674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250,000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Curved Left Arrow 6"/>
          <p:cNvSpPr/>
          <p:nvPr/>
        </p:nvSpPr>
        <p:spPr>
          <a:xfrm rot="5400000">
            <a:off x="3390840" y="342720"/>
            <a:ext cx="609480" cy="1752480"/>
          </a:xfrm>
          <a:custGeom>
            <a:avLst/>
            <a:gdLst>
              <a:gd name="textAreaLeft" fmla="*/ 81360 w 609480"/>
              <a:gd name="textAreaRight" fmla="*/ 528120 w 609480"/>
              <a:gd name="textAreaTop" fmla="*/ 380880 h 1752480"/>
              <a:gd name="textAreaBottom" fmla="*/ 12952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91" stAng="-5400000" swAng="5400000"/>
                <a:lnTo>
                  <a:pt x="21600" y="11270"/>
                </a:lnTo>
                <a:arcTo wR="21600" hR="9391" stAng="0" swAng="3557695"/>
                <a:lnTo>
                  <a:pt x="5400" y="21302"/>
                </a:lnTo>
                <a:lnTo>
                  <a:pt x="0" y="19722"/>
                </a:lnTo>
                <a:lnTo>
                  <a:pt x="5400" y="17545"/>
                </a:lnTo>
                <a:lnTo>
                  <a:pt x="5400" y="18484"/>
                </a:lnTo>
                <a:arcTo wR="21600" hR="9391" stAng="3557695" swAng="-3407510"/>
                <a:lnTo>
                  <a:pt x="21492" y="10331"/>
                </a:lnTo>
                <a:arcTo wR="21600" hR="9391" stAng="-150184" swAng="-5249816"/>
                <a:close/>
              </a:path>
              <a:path fill="darkenLess" w="21600" h="21600">
                <a:moveTo>
                  <a:pt x="0" y="0"/>
                </a:moveTo>
                <a:arcTo wR="21600" hR="9391" stAng="-5400000" swAng="5400000"/>
                <a:lnTo>
                  <a:pt x="21600" y="11270"/>
                </a:lnTo>
                <a:arcTo wR="21600" hR="9391" stAng="0" swAng="-150184"/>
                <a:lnTo>
                  <a:pt x="21492" y="10331"/>
                </a:lnTo>
                <a:arcTo wR="21600" hR="9391" stAng="-150184" swAng="-5249816"/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lowchart: Connector 7"/>
          <p:cNvSpPr/>
          <p:nvPr/>
        </p:nvSpPr>
        <p:spPr>
          <a:xfrm flipH="1" flipV="1">
            <a:off x="2971800" y="8380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cientific Notation Practi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5700 = 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90000 = 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5 x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006584 = 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4 x 10-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________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3657600" y="1752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467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3521160" y="236232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92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3893400" y="289548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5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3738600" y="3505320"/>
            <a:ext cx="21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584 x10-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3818160" y="4191120"/>
            <a:ext cx="18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0000000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221304"/>
                </a:solidFill>
                <a:uFillTx/>
                <a:latin typeface="Century Gothic"/>
              </a:rPr>
              <a:t>Measurement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391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is measured with a meter stick/ruler and has units of meters, centimeters or millimete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2" descr="http://www.k12math.com/math-concepts/measurement/ruler-cm.jpg"/>
          <p:cNvPicPr/>
          <p:nvPr/>
        </p:nvPicPr>
        <p:blipFill>
          <a:blip r:embed="rId1"/>
          <a:stretch/>
        </p:blipFill>
        <p:spPr>
          <a:xfrm>
            <a:off x="1371600" y="3048120"/>
            <a:ext cx="4876920" cy="28954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9"/>
          <p:cNvSpPr/>
          <p:nvPr/>
        </p:nvSpPr>
        <p:spPr>
          <a:xfrm>
            <a:off x="6180840" y="4724280"/>
            <a:ext cx="27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cm= ____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7470360" y="4648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21304"/>
                </a:solidFill>
                <a:uFillTx/>
                <a:latin typeface="Times New Roman"/>
              </a:rPr>
              <a:t>Conversion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66320" y="36576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50 cm = ____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5 m = ____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3 m = ____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 cm =____ 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 = ______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1143000" y="16002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ds Hate Doing </a:t>
            </a:r>
            <a:r>
              <a:rPr b="0" lang="en-US" sz="3200" spc="-1" strike="noStrike">
                <a:solidFill>
                  <a:srgbClr val="008e40"/>
                </a:solidFill>
                <a:latin typeface="Times New Roman"/>
              </a:rPr>
              <a:t>Ma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u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Co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c4e10"/>
                </a:solidFill>
                <a:latin typeface="Times New Roman"/>
              </a:rPr>
              <a:t>Mov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e40"/>
                </a:solidFill>
                <a:latin typeface="Times New Roman"/>
              </a:rPr>
              <a:t>met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eci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centimet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8c4e10"/>
                </a:solidFill>
                <a:latin typeface="Times New Roman"/>
              </a:rPr>
              <a:t>milli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Curved Up Arrow 7"/>
          <p:cNvSpPr/>
          <p:nvPr/>
        </p:nvSpPr>
        <p:spPr>
          <a:xfrm flipH="1">
            <a:off x="4419000" y="3200400"/>
            <a:ext cx="1143000" cy="457200"/>
          </a:xfrm>
          <a:custGeom>
            <a:avLst/>
            <a:gdLst>
              <a:gd name="textAreaLeft" fmla="*/ 242280 w 1143000"/>
              <a:gd name="textAreaRight" fmla="*/ 842760 w 11430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523212"/>
                <a:lnTo>
                  <a:pt x="21308" y="5400"/>
                </a:lnTo>
                <a:lnTo>
                  <a:pt x="19440" y="0"/>
                </a:lnTo>
                <a:lnTo>
                  <a:pt x="16988" y="5400"/>
                </a:lnTo>
                <a:lnTo>
                  <a:pt x="18068" y="5400"/>
                </a:lnTo>
                <a:arcTo wR="9180" hR="21600" stAng="1876788" swAng="3350269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Curved Up Arrow 9"/>
          <p:cNvSpPr/>
          <p:nvPr/>
        </p:nvSpPr>
        <p:spPr>
          <a:xfrm flipH="1">
            <a:off x="6780960" y="3200400"/>
            <a:ext cx="1143000" cy="457200"/>
          </a:xfrm>
          <a:custGeom>
            <a:avLst/>
            <a:gdLst>
              <a:gd name="textAreaLeft" fmla="*/ 242280 w 1143000"/>
              <a:gd name="textAreaRight" fmla="*/ 842760 w 11430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523212"/>
                <a:lnTo>
                  <a:pt x="21308" y="5400"/>
                </a:lnTo>
                <a:lnTo>
                  <a:pt x="19440" y="0"/>
                </a:lnTo>
                <a:lnTo>
                  <a:pt x="16988" y="5400"/>
                </a:lnTo>
                <a:lnTo>
                  <a:pt x="18068" y="5400"/>
                </a:lnTo>
                <a:arcTo wR="9180" hR="21600" stAng="1876788" swAng="3350269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Curved Up Arrow 10"/>
          <p:cNvSpPr/>
          <p:nvPr/>
        </p:nvSpPr>
        <p:spPr>
          <a:xfrm flipH="1">
            <a:off x="5637960" y="3200400"/>
            <a:ext cx="1143000" cy="457200"/>
          </a:xfrm>
          <a:custGeom>
            <a:avLst/>
            <a:gdLst>
              <a:gd name="textAreaLeft" fmla="*/ 242280 w 1143000"/>
              <a:gd name="textAreaRight" fmla="*/ 842760 w 11430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523212"/>
                <a:lnTo>
                  <a:pt x="21308" y="5400"/>
                </a:lnTo>
                <a:lnTo>
                  <a:pt x="19440" y="0"/>
                </a:lnTo>
                <a:lnTo>
                  <a:pt x="16988" y="5400"/>
                </a:lnTo>
                <a:lnTo>
                  <a:pt x="18068" y="5400"/>
                </a:lnTo>
                <a:arcTo wR="9180" hR="21600" stAng="1876788" swAng="3350269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3126960" y="350532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2824200" y="41911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2823480" y="48006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4"/>
          <p:cNvSpPr/>
          <p:nvPr/>
        </p:nvSpPr>
        <p:spPr>
          <a:xfrm>
            <a:off x="3278880" y="5410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2747880" y="59436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Up-Down Arrow 16"/>
          <p:cNvSpPr/>
          <p:nvPr/>
        </p:nvSpPr>
        <p:spPr>
          <a:xfrm rot="5400000">
            <a:off x="4686120" y="-266400"/>
            <a:ext cx="304920" cy="3581280"/>
          </a:xfrm>
          <a:prstGeom prst="upDownArrow">
            <a:avLst>
              <a:gd name="adj1" fmla="val 50000"/>
              <a:gd name="adj2" fmla="val 49971"/>
            </a:avLst>
          </a:prstGeom>
          <a:solidFill>
            <a:srgbClr val="fefd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17"/>
          <p:cNvSpPr/>
          <p:nvPr/>
        </p:nvSpPr>
        <p:spPr>
          <a:xfrm>
            <a:off x="1299240" y="106668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8"/>
          <p:cNvSpPr/>
          <p:nvPr/>
        </p:nvSpPr>
        <p:spPr>
          <a:xfrm>
            <a:off x="7090560" y="12193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20"/>
          <p:cNvSpPr/>
          <p:nvPr/>
        </p:nvSpPr>
        <p:spPr>
          <a:xfrm>
            <a:off x="4592520" y="2666880"/>
            <a:ext cx="39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   10          100          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990720" y="3805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is length x width and the units are cm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Volume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pace object occupies (units a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r solids and mL for liqui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r a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egular solid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like a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2479320" y="548640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ength x width x h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21304"/>
                </a:solidFill>
                <a:uFillTx/>
                <a:latin typeface="Times New Roman"/>
              </a:rPr>
              <a:t>Volume of a regular soli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5034240" cy="2590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2819520" y="4267080"/>
            <a:ext cx="3886200" cy="727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3"/>
          <a:stretch/>
        </p:blipFill>
        <p:spPr>
          <a:xfrm>
            <a:off x="1752480" y="5105520"/>
            <a:ext cx="6232680" cy="504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"/>
          <p:cNvPicPr/>
          <p:nvPr/>
        </p:nvPicPr>
        <p:blipFill>
          <a:blip r:embed="rId4"/>
          <a:stretch/>
        </p:blipFill>
        <p:spPr>
          <a:xfrm>
            <a:off x="2057400" y="5715000"/>
            <a:ext cx="55450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21304"/>
                </a:solidFill>
                <a:uFillTx/>
                <a:latin typeface="Times New Roman"/>
              </a:rPr>
              <a:t>Volume of an irregular solid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42640" y="1371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r an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rregular solid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ike a rock,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use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2526840" y="1981080"/>
            <a:ext cx="53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er displacement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1066680" y="2666880"/>
            <a:ext cx="46483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water to a graduated cylinder and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object to the cylinder and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the original volume of water from the water with the object i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7" descr="https://encrypted-tbn1.google.com/images?q=tbn:ANd9GcRLALbnyBROrjBFfFiNgnnLp3V8TQroNrAvo2PpUoikbRyXizHc"/>
          <p:cNvPicPr/>
          <p:nvPr/>
        </p:nvPicPr>
        <p:blipFill>
          <a:blip r:embed="rId1"/>
          <a:stretch/>
        </p:blipFill>
        <p:spPr>
          <a:xfrm>
            <a:off x="5410080" y="2895480"/>
            <a:ext cx="346716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21304"/>
                </a:solidFill>
                <a:uFillTx/>
                <a:latin typeface="Times New Roman"/>
              </a:rPr>
              <a:t>Reading a graduated cylinder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066320" y="40384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read the bottom of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2" descr="http://chem.wisc.edu/deptfiles/genchem/lab/labdocs/modules/gradcyl/pic/131951st.jpg"/>
          <p:cNvPicPr/>
          <p:nvPr/>
        </p:nvPicPr>
        <p:blipFill>
          <a:blip r:embed="rId1"/>
          <a:stretch/>
        </p:blipFill>
        <p:spPr>
          <a:xfrm>
            <a:off x="2971800" y="13716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4"/>
          <p:cNvSpPr/>
          <p:nvPr/>
        </p:nvSpPr>
        <p:spPr>
          <a:xfrm>
            <a:off x="6027480" y="4038480"/>
            <a:ext cx="18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nisc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1988280" y="5105520"/>
            <a:ext cx="16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3891960" y="5105520"/>
            <a:ext cx="15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1.5 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eft Arrow 7"/>
          <p:cNvSpPr/>
          <p:nvPr/>
        </p:nvSpPr>
        <p:spPr>
          <a:xfrm>
            <a:off x="5715000" y="2514600"/>
            <a:ext cx="1587600" cy="579600"/>
          </a:xfrm>
          <a:prstGeom prst="leftArrow">
            <a:avLst>
              <a:gd name="adj1" fmla="val 50000"/>
              <a:gd name="adj2" fmla="val 49951"/>
            </a:avLst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21304"/>
                </a:solidFill>
                <a:uFillTx/>
                <a:latin typeface="Times New Roman"/>
              </a:rPr>
              <a:t>Earth Scien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 Science is the study of the Ear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tudy the Earth in 4 separate s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eolo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tudy of the history, structure, processes and composition of Earth’s solid surface down to the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ceanograph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udy of the oc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teorolog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udy of the Earth’s atmosphere: weather and clim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tronom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udy of the Uni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304920"/>
            <a:ext cx="41911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volume of the rock in the pict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2" descr="http://2009rt8scizach.files.wordpress.com/2009/11/voltest.gif"/>
          <p:cNvPicPr/>
          <p:nvPr/>
        </p:nvPicPr>
        <p:blipFill>
          <a:blip r:embed="rId1"/>
          <a:stretch/>
        </p:blipFill>
        <p:spPr>
          <a:xfrm>
            <a:off x="4800600" y="762120"/>
            <a:ext cx="4000680" cy="56084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914400" y="22096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graduated cylinder = 200 mL or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143000" y="32767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graduated cylinder = 260 mL or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1296720" y="441972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0 mL – 200 mL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1685160" y="5334120"/>
            <a:ext cx="185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mL or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6"/>
          <p:cNvSpPr/>
          <p:nvPr/>
        </p:nvSpPr>
        <p:spPr>
          <a:xfrm>
            <a:off x="6571080" y="533520"/>
            <a:ext cx="13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10"/>
          <p:cNvSpPr/>
          <p:nvPr/>
        </p:nvSpPr>
        <p:spPr>
          <a:xfrm>
            <a:off x="1066680" y="53352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s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measures the amount of              in an object. Units are 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11"/>
          <p:cNvSpPr/>
          <p:nvPr/>
        </p:nvSpPr>
        <p:spPr>
          <a:xfrm>
            <a:off x="990720" y="1752480"/>
            <a:ext cx="75438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ensit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measures the amount of matter that is crammed into an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s formula is on pg 1 of ES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density =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its are g/cm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5" descr="http://t3.gstatic.com/images?q=tbn:ANd9GcTXk9bmzGPNuZjQdBvv8X4LTbSshZmEqEJeKFaLrTS63mJVA-LUow"/>
          <p:cNvPicPr/>
          <p:nvPr/>
        </p:nvPicPr>
        <p:blipFill>
          <a:blip r:embed="rId1"/>
          <a:stretch/>
        </p:blipFill>
        <p:spPr>
          <a:xfrm>
            <a:off x="6477120" y="4633920"/>
            <a:ext cx="205740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21304"/>
                </a:solidFill>
                <a:uFillTx/>
                <a:latin typeface="Times New Roman"/>
              </a:rPr>
              <a:t>Densi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66320" y="1752120"/>
            <a:ext cx="7620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ensity of a mineral whose mass is 60 grams and displaced 40mL of water? Record your answer to the nearest ten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3"/>
          <p:cNvSpPr/>
          <p:nvPr/>
        </p:nvSpPr>
        <p:spPr>
          <a:xfrm>
            <a:off x="3124080" y="3429000"/>
            <a:ext cx="4419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density =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2286000" y="4495680"/>
            <a:ext cx="26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60 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=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 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5411880" y="4800600"/>
            <a:ext cx="178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5   _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What is the mass of a sample whose known density is 1.5g/mL and a volume of 15 mL? Record your answer to the nearest tenth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61" name="Picture 5" descr="http://t3.gstatic.com/images?q=tbn:ANd9GcTXk9bmzGPNuZjQdBvv8X4LTbSshZmEqEJeKFaLrTS63mJVA-LUow"/>
          <p:cNvPicPr/>
          <p:nvPr/>
        </p:nvPicPr>
        <p:blipFill>
          <a:blip r:embed="rId1"/>
          <a:stretch/>
        </p:blipFill>
        <p:spPr>
          <a:xfrm>
            <a:off x="1447920" y="3352680"/>
            <a:ext cx="2209680" cy="20131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4189680" y="3124080"/>
            <a:ext cx="4184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s= 1.5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_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5 m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5112720" y="42670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2.5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21304"/>
                </a:solidFill>
                <a:latin typeface="Times New Roman"/>
              </a:rPr>
              <a:t>Percent Deviation</a:t>
            </a:r>
            <a:endParaRPr b="0" lang="en-US" sz="6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82440"/>
            <a:ext cx="7620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01064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o measurement is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refore there must contain some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rrors occur for many different reason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rite down a few reasons you think errors may occur in taking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%Devi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science there are accepted values for certain measurements because nothing is perfec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cepted values are determined and will be given to assist in figuring out the percent deviation of a measur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can do this for all measurements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So to determine use the Percent Deviation or  % Error formula 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ou need to memorize this formula it is not on the ESRT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will always be expressed as 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8" descr=""/>
          <p:cNvPicPr/>
          <p:nvPr/>
        </p:nvPicPr>
        <p:blipFill>
          <a:blip r:embed="rId1"/>
          <a:stretch/>
        </p:blipFill>
        <p:spPr>
          <a:xfrm>
            <a:off x="882720" y="2819520"/>
            <a:ext cx="826128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914040" y="60912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find the density of an object to be 1.5g/mL and the accepted density is 1.25 g/mL what is the % devi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1523880" y="22860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8" descr=""/>
          <p:cNvPicPr/>
          <p:nvPr/>
        </p:nvPicPr>
        <p:blipFill>
          <a:blip r:embed="rId1"/>
          <a:stretch/>
        </p:blipFill>
        <p:spPr>
          <a:xfrm>
            <a:off x="1523880" y="2666880"/>
            <a:ext cx="6391440" cy="781200"/>
          </a:xfrm>
          <a:prstGeom prst="rect">
            <a:avLst/>
          </a:prstGeom>
          <a:ln w="0">
            <a:noFill/>
          </a:ln>
        </p:spPr>
      </p:pic>
      <p:sp>
        <p:nvSpPr>
          <p:cNvPr id="276" name="TextBox 5"/>
          <p:cNvSpPr/>
          <p:nvPr/>
        </p:nvSpPr>
        <p:spPr>
          <a:xfrm>
            <a:off x="1089720" y="3886200"/>
            <a:ext cx="710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iation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5g/mL – 1.25g/m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x 100  =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5g/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21304"/>
                </a:solidFill>
                <a:latin typeface="Times New Roman"/>
              </a:rPr>
              <a:t>Density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e40"/>
                </a:solidFill>
                <a:latin typeface="Times New Roman"/>
              </a:rPr>
              <a:t>Quantit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tive vs.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Qualit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tive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040" y="13716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s with numb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whic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be measur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, height, area, volume, weight, speed, time, temperature, humidity, sound levels, cost, members, ages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e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e40"/>
                </a:solidFill>
                <a:latin typeface="Times New Roman"/>
              </a:rPr>
              <a:t>Quant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ive → </a:t>
            </a:r>
            <a:r>
              <a:rPr b="1" lang="en-US" sz="2400" spc="-1" strike="noStrike">
                <a:solidFill>
                  <a:srgbClr val="008e40"/>
                </a:solidFill>
                <a:latin typeface="Times New Roman"/>
              </a:rPr>
              <a:t>Quant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101920" y="137160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s with descrip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an be observed bu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 measur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s, textures, smells, tastes, appearance, beauty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ual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ive →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ual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" descr="http://regentsprep.org/Regents/math/ALGEBRA/AD1/latte.gif"/>
          <p:cNvPicPr/>
          <p:nvPr/>
        </p:nvPicPr>
        <p:blipFill>
          <a:blip r:embed="rId1"/>
          <a:stretch/>
        </p:blipFill>
        <p:spPr>
          <a:xfrm>
            <a:off x="4724280" y="4648320"/>
            <a:ext cx="2044800" cy="17524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6"/>
          <p:cNvSpPr/>
          <p:nvPr/>
        </p:nvSpPr>
        <p:spPr>
          <a:xfrm>
            <a:off x="7010280" y="46483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ells good, red cup,  strong tas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17"/>
          <p:cNvSpPr/>
          <p:nvPr/>
        </p:nvSpPr>
        <p:spPr>
          <a:xfrm>
            <a:off x="1600200" y="528804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oz cup, temp 150 degrees Fahrenheit, cost $2.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11"/>
          <p:cNvGrpSpPr/>
          <p:nvPr/>
        </p:nvGrpSpPr>
        <p:grpSpPr>
          <a:xfrm>
            <a:off x="1822320" y="1251000"/>
            <a:ext cx="5480280" cy="4956120"/>
            <a:chOff x="1822320" y="1251000"/>
            <a:chExt cx="5480280" cy="4956120"/>
          </a:xfrm>
        </p:grpSpPr>
        <p:sp>
          <p:nvSpPr>
            <p:cNvPr id="145" name="SMARTInkAnnotation0"/>
            <p:cNvSpPr/>
            <p:nvPr/>
          </p:nvSpPr>
          <p:spPr>
            <a:xfrm>
              <a:off x="1822320" y="1251000"/>
              <a:ext cx="5480280" cy="363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SMARTInkAnnotation1"/>
            <p:cNvSpPr/>
            <p:nvPr/>
          </p:nvSpPr>
          <p:spPr>
            <a:xfrm>
              <a:off x="4506840" y="1276200"/>
              <a:ext cx="144360" cy="49309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82440"/>
            <a:ext cx="7620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easure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he concentration of matter in an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Page 1 of your ESRT you can find the Formu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rite Down the Formu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837720" y="30456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nsity of an object DOES NOT depend on the shape or size of the object a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ng as temperature and pressure remain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cut a pencil in half each piece is the same density unless you change the temperature or pressure of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If I have a cube of graphite that has a mass of 44g and volume of 2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at is the dens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5139000" y="5943600"/>
            <a:ext cx="392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2g/ c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at sink in water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82440"/>
            <a:ext cx="7620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90360" y="761760"/>
            <a:ext cx="79311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xt… I have a graphite ball that has a mass of 88g and volume of 40c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what is the dens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5"/>
          <p:cNvSpPr/>
          <p:nvPr/>
        </p:nvSpPr>
        <p:spPr>
          <a:xfrm>
            <a:off x="1371600" y="49528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r still working with the same object/material…Graphite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949800" y="2133720"/>
            <a:ext cx="172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2g/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1219320" y="2895480"/>
            <a:ext cx="7467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nsity is the same for the two graphit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21304"/>
                </a:solidFill>
                <a:uFillTx/>
                <a:latin typeface="Times New Roman"/>
              </a:rPr>
              <a:t>Physical Changes that affect Densit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ess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hase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ect the densities of substances especial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s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21304"/>
                </a:solidFill>
                <a:uFillTx/>
                <a:latin typeface="Times New Roman"/>
              </a:rPr>
              <a:t>1. Pressure and Densi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142640" y="14479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sh molecules closer together and the  density will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122000" y="190512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2" descr="http://wiki.chemprime.chemeddl.org/images/b/be/Effects_of_Volume_on_Pressure.jpg"/>
          <p:cNvPicPr/>
          <p:nvPr/>
        </p:nvPicPr>
        <p:blipFill>
          <a:blip r:embed="rId1"/>
          <a:stretch/>
        </p:blipFill>
        <p:spPr>
          <a:xfrm>
            <a:off x="1676520" y="3417840"/>
            <a:ext cx="6400800" cy="34401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5"/>
          <p:cNvSpPr/>
          <p:nvPr/>
        </p:nvSpPr>
        <p:spPr>
          <a:xfrm>
            <a:off x="1066680" y="2514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ant!!!! The space between the molecules is changing NOT THE MOLECUL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essure continued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990720" y="152388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essure of a gas increas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 molecules will com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oser togeth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densi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the gas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8"/>
          <p:cNvSpPr/>
          <p:nvPr/>
        </p:nvSpPr>
        <p:spPr>
          <a:xfrm>
            <a:off x="5421240" y="3429000"/>
            <a:ext cx="239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1066320" y="7621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cean puts more pressure the _________ you a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Box 4"/>
          <p:cNvSpPr/>
          <p:nvPr/>
        </p:nvSpPr>
        <p:spPr>
          <a:xfrm>
            <a:off x="6940800" y="76212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e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1219320" y="53341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100 feet of water compressed the tiny air bubbles inside the Styrofoam and turned a large cup into an espresso c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2" descr="Palmercup1"/>
          <p:cNvPicPr/>
          <p:nvPr/>
        </p:nvPicPr>
        <p:blipFill>
          <a:blip r:embed="rId1"/>
          <a:stretch/>
        </p:blipFill>
        <p:spPr>
          <a:xfrm>
            <a:off x="4648320" y="1523880"/>
            <a:ext cx="3822480" cy="3695760"/>
          </a:xfrm>
          <a:prstGeom prst="rect">
            <a:avLst/>
          </a:prstGeom>
          <a:ln w="0">
            <a:noFill/>
          </a:ln>
        </p:spPr>
      </p:pic>
      <p:sp>
        <p:nvSpPr>
          <p:cNvPr id="302" name="TextBox 8"/>
          <p:cNvSpPr/>
          <p:nvPr/>
        </p:nvSpPr>
        <p:spPr>
          <a:xfrm>
            <a:off x="1371600" y="2057400"/>
            <a:ext cx="22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ve you ever dove to the bottom of a swimming pool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21304"/>
                </a:solidFill>
                <a:uFillTx/>
                <a:latin typeface="Times New Roman"/>
              </a:rPr>
              <a:t>2. Temperature and Densi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142640" y="1523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crea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temperature of a substance (with some exceptions) ___________its density by increasing the volume of that substa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4"/>
          <p:cNvSpPr/>
          <p:nvPr/>
        </p:nvSpPr>
        <p:spPr>
          <a:xfrm>
            <a:off x="5723640" y="266688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Content Placeholder 2"/>
          <p:cNvSpPr/>
          <p:nvPr/>
        </p:nvSpPr>
        <p:spPr>
          <a:xfrm>
            <a:off x="990720" y="304920"/>
            <a:ext cx="76197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4"/>
          <p:cNvSpPr/>
          <p:nvPr/>
        </p:nvSpPr>
        <p:spPr>
          <a:xfrm>
            <a:off x="1066680" y="533520"/>
            <a:ext cx="76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ot air balloon expands as you heat the air molecules inside the balloon, creating less pressure so the balloon can r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2" descr="http://hotairballoonridesny.com/images/balloon-solo.jpg"/>
          <p:cNvPicPr/>
          <p:nvPr/>
        </p:nvPicPr>
        <p:blipFill>
          <a:blip r:embed="rId1"/>
          <a:stretch/>
        </p:blipFill>
        <p:spPr>
          <a:xfrm>
            <a:off x="3505320" y="2590920"/>
            <a:ext cx="39830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990720" y="5335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ing the bottom of a fluid can result i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conv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heat to rise from bottom to top of the fluid due to the decrease of the density of the heated flu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4" descr="http://dreamtigers.files.wordpress.com/2011/05/convection_currents_2final.jpg"/>
          <p:cNvPicPr/>
          <p:nvPr/>
        </p:nvPicPr>
        <p:blipFill>
          <a:blip r:embed="rId2"/>
          <a:stretch/>
        </p:blipFill>
        <p:spPr>
          <a:xfrm>
            <a:off x="914400" y="2590920"/>
            <a:ext cx="76914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Century Gothic"/>
              </a:rPr>
              <a:t>Observation Vs. Inference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21304"/>
                </a:solidFill>
                <a:uFillTx/>
                <a:latin typeface="Times New Roman"/>
              </a:rPr>
              <a:t>3. Phase Change and densi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nsity of a substance changes with changes in its phase (solid, liquid, g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ike Water every substance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st d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it’s _________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ter is the most dense as a 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5"/>
          <p:cNvSpPr/>
          <p:nvPr/>
        </p:nvSpPr>
        <p:spPr>
          <a:xfrm>
            <a:off x="4043520" y="33526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5" descr="http://circleofninepoints.files.wordpress.com/2009/12/floating-ice.jpg"/>
          <p:cNvPicPr/>
          <p:nvPr/>
        </p:nvPicPr>
        <p:blipFill>
          <a:blip r:embed="rId1"/>
          <a:stretch/>
        </p:blipFill>
        <p:spPr>
          <a:xfrm>
            <a:off x="3124080" y="4572000"/>
            <a:ext cx="2992680" cy="19620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6331680" y="388620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21304"/>
                </a:solidFill>
                <a:uFillTx/>
                <a:latin typeface="Times New Roman"/>
              </a:rPr>
              <a:t>States of Matt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066320" y="1752480"/>
            <a:ext cx="762012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image008"/>
          <p:cNvPicPr/>
          <p:nvPr/>
        </p:nvPicPr>
        <p:blipFill>
          <a:blip r:embed="rId2"/>
          <a:stretch/>
        </p:blipFill>
        <p:spPr>
          <a:xfrm>
            <a:off x="2819520" y="2133720"/>
            <a:ext cx="457200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olid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142640" y="12193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d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ecules are closest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e shape and definite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ecules are moving, but slowly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2" descr="http://t2.gstatic.com/images?q=tbn:ANd9GcSW75GFxGkyS5AH_8B4BhYD3xAGgp6LLaImMs9kTnoc0rKpi2lJoJGF3um_0w"/>
          <p:cNvPicPr/>
          <p:nvPr/>
        </p:nvPicPr>
        <p:blipFill>
          <a:blip r:embed="rId1"/>
          <a:stretch/>
        </p:blipFill>
        <p:spPr>
          <a:xfrm>
            <a:off x="3429000" y="3657600"/>
            <a:ext cx="25146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iqui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142640" y="12193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dense than s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ecules are free to move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e shape, no definite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he shape of its contain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ecules are moving quick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2"/>
          <p:cNvSpPr/>
          <p:nvPr/>
        </p:nvSpPr>
        <p:spPr>
          <a:xfrm>
            <a:off x="76320" y="-608040"/>
            <a:ext cx="13428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4"/>
          <p:cNvSpPr/>
          <p:nvPr/>
        </p:nvSpPr>
        <p:spPr>
          <a:xfrm>
            <a:off x="76320" y="-608040"/>
            <a:ext cx="13428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6" descr="http://www.uvm.edu/~inquiryb/webquest/sp09/ndecaro/liquidmolecules.jpg"/>
          <p:cNvPicPr/>
          <p:nvPr/>
        </p:nvPicPr>
        <p:blipFill>
          <a:blip r:embed="rId1"/>
          <a:stretch/>
        </p:blipFill>
        <p:spPr>
          <a:xfrm>
            <a:off x="3352680" y="4267080"/>
            <a:ext cx="243864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a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66320" y="1295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st d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ecules are excited and spread 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definite shape, no definite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ecules are moving the fastest!!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2" descr="http://chemwiki.ucdavis.edu/@api/deki/files/4260/=WOOORRRKKKKK.gif"/>
          <p:cNvPicPr/>
          <p:nvPr/>
        </p:nvPicPr>
        <p:blipFill>
          <a:blip r:embed="rId1"/>
          <a:stretch/>
        </p:blipFill>
        <p:spPr>
          <a:xfrm>
            <a:off x="2819520" y="3733920"/>
            <a:ext cx="34290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Effects on States of Matter and Temperature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295280" y="24382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phet.colorado.edu/en/simulation/states-of-matter-ba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18960" y="213012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21304"/>
                </a:solidFill>
                <a:latin typeface="Century Gothic"/>
              </a:rPr>
              <a:t>The Changing Environment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21304"/>
                </a:solidFill>
                <a:latin typeface="Century Gothic"/>
              </a:rPr>
              <a:t>Change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CHANG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is when properties or characteristics of anything have been al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FIELD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s something you can measure in th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 field could be temperature, distance…think of 2 more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at does MPH me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609624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21304"/>
                </a:solidFill>
                <a:uFillTx/>
                <a:latin typeface="Century Gothic"/>
              </a:rPr>
              <a:t>Rate Of Chang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6197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iles Per Hour…it is how far you travel in an hour.  This is a rate of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ate of change is how much something changes over a period of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ook for the rate of change formula on your ES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tretch/>
        </p:blipFill>
        <p:spPr>
          <a:xfrm>
            <a:off x="3962520" y="5562720"/>
            <a:ext cx="461016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temperature of a room cools off from 100 degrees Fahrenheit  to 85 degrees Fahrenheit in 5 hours. What is the rate of change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41" name="Picture 10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4610160" cy="819360"/>
          </a:xfrm>
          <a:prstGeom prst="rect">
            <a:avLst/>
          </a:prstGeom>
          <a:ln w="0">
            <a:noFill/>
          </a:ln>
        </p:spPr>
      </p:pic>
      <p:sp>
        <p:nvSpPr>
          <p:cNvPr id="342" name="TextBox 4"/>
          <p:cNvSpPr/>
          <p:nvPr/>
        </p:nvSpPr>
        <p:spPr>
          <a:xfrm>
            <a:off x="2457720" y="4343400"/>
            <a:ext cx="503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change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5 degrees Fahre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Box 6"/>
          <p:cNvSpPr/>
          <p:nvPr/>
        </p:nvSpPr>
        <p:spPr>
          <a:xfrm>
            <a:off x="3348720" y="5410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degrees Fahrenheit/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1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221304"/>
                </a:solidFill>
                <a:uFillTx/>
                <a:latin typeface="Century Gothic"/>
              </a:rPr>
              <a:t>Observation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6705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 Observation is made using your FIVE senses or an instru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o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m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e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Clouds are white is an observation,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8" descr="C:\Users\Owner\AppData\Local\Microsoft\Windows\Temporary Internet Files\Content.IE5\NES8G4IM\MM900283221[1].gif"/>
          <p:cNvPicPr/>
          <p:nvPr/>
        </p:nvPicPr>
        <p:blipFill>
          <a:blip r:embed="rId1"/>
          <a:stretch/>
        </p:blipFill>
        <p:spPr>
          <a:xfrm>
            <a:off x="5791320" y="2994120"/>
            <a:ext cx="222876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21304"/>
                </a:solidFill>
                <a:uFillTx/>
                <a:latin typeface="Century Gothic"/>
              </a:rPr>
              <a:t>Cyclic Chang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Some changes occur in a pattern when they happen at the same time every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This is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entury Gothic"/>
              </a:rPr>
              <a:t>CYCLIC CH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an you think of any examples of this? Write them 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21304"/>
                </a:solidFill>
                <a:uFillTx/>
                <a:latin typeface="Times New Roman"/>
              </a:rPr>
              <a:t>Graphing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66320" y="1295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e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e40"/>
                </a:solidFill>
                <a:uFillTx/>
                <a:latin typeface="Times New Roman"/>
              </a:rPr>
              <a:t>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dependent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You (</a:t>
            </a:r>
            <a:r>
              <a:rPr b="0" lang="en-US" sz="3200" spc="-1" strike="noStrike">
                <a:solidFill>
                  <a:srgbClr val="008e4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have control over (example: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epen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nt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pen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independent varia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2" descr="http://t0.gstatic.com/images?q=tbn:ANd9GcSULHvZGmGkjrC2u9EStvRsUjXIlJedjGnvPYJ9gJ6hl49rpEms8t8uhHLwQg"/>
          <p:cNvPicPr/>
          <p:nvPr/>
        </p:nvPicPr>
        <p:blipFill>
          <a:blip r:embed="rId1"/>
          <a:stretch/>
        </p:blipFill>
        <p:spPr>
          <a:xfrm>
            <a:off x="2438280" y="3429000"/>
            <a:ext cx="4359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WordArt 2"/>
          <p:cNvSpPr txBox="1"/>
          <p:nvPr/>
        </p:nvSpPr>
        <p:spPr>
          <a:xfrm>
            <a:off x="1620720" y="228600"/>
            <a:ext cx="590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5560">
                  <a:solidFill>
                    <a:srgbClr val="fefde3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Graphical Relationships</a:t>
            </a:r>
            <a:endParaRPr b="0" lang="en-US" sz="2800" spc="1" strike="noStrike">
              <a:ln w="25560">
                <a:solidFill>
                  <a:srgbClr val="fefde3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350" name="Rectangle 32"/>
          <p:cNvSpPr/>
          <p:nvPr/>
        </p:nvSpPr>
        <p:spPr>
          <a:xfrm>
            <a:off x="1107000" y="1675800"/>
            <a:ext cx="42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rect Relationship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33"/>
          <p:cNvSpPr/>
          <p:nvPr/>
        </p:nvSpPr>
        <p:spPr>
          <a:xfrm>
            <a:off x="1464480" y="2513520"/>
            <a:ext cx="77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one variable increases, the other __________________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34"/>
          <p:cNvSpPr/>
          <p:nvPr/>
        </p:nvSpPr>
        <p:spPr>
          <a:xfrm>
            <a:off x="3505320" y="3494160"/>
            <a:ext cx="9360" cy="24098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5"/>
          <p:cNvSpPr/>
          <p:nvPr/>
        </p:nvSpPr>
        <p:spPr>
          <a:xfrm flipV="1">
            <a:off x="3505320" y="5867280"/>
            <a:ext cx="2709720" cy="50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WordArt 36"/>
          <p:cNvSpPr txBox="1"/>
          <p:nvPr/>
        </p:nvSpPr>
        <p:spPr>
          <a:xfrm>
            <a:off x="5791320" y="2209680"/>
            <a:ext cx="2666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 Did This!"/>
              </a:rPr>
              <a:t>increases</a:t>
            </a:r>
            <a:endParaRPr b="0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 Did This!"/>
              <a:ea typeface="I Did This!"/>
            </a:endParaRPr>
          </a:p>
        </p:txBody>
      </p:sp>
      <p:sp>
        <p:nvSpPr>
          <p:cNvPr id="355" name="Line 39"/>
          <p:cNvSpPr/>
          <p:nvPr/>
        </p:nvSpPr>
        <p:spPr>
          <a:xfrm flipV="1">
            <a:off x="3524400" y="3529080"/>
            <a:ext cx="2438280" cy="228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Box 8"/>
          <p:cNvSpPr/>
          <p:nvPr/>
        </p:nvSpPr>
        <p:spPr>
          <a:xfrm>
            <a:off x="1143000" y="3276720"/>
            <a:ext cx="2057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ure increase and density in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77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1" dur="770" fill="hold"/>
                                        <p:tgtEl>
                                          <p:spTgt spid="3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3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5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5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WordArt 3"/>
          <p:cNvSpPr txBox="1"/>
          <p:nvPr/>
        </p:nvSpPr>
        <p:spPr>
          <a:xfrm>
            <a:off x="1620720" y="228600"/>
            <a:ext cx="590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5560">
                  <a:solidFill>
                    <a:srgbClr val="fefde3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Graphical Relationships</a:t>
            </a:r>
            <a:endParaRPr b="0" lang="en-US" sz="2800" spc="1" strike="noStrike">
              <a:ln w="25560">
                <a:solidFill>
                  <a:srgbClr val="fefde3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1182600" y="1523520"/>
            <a:ext cx="46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direct Relationship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1384200" y="2437200"/>
            <a:ext cx="76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one variable increases, the other ______________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6"/>
          <p:cNvSpPr/>
          <p:nvPr/>
        </p:nvSpPr>
        <p:spPr>
          <a:xfrm>
            <a:off x="3211560" y="3719520"/>
            <a:ext cx="9360" cy="24098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7"/>
          <p:cNvSpPr/>
          <p:nvPr/>
        </p:nvSpPr>
        <p:spPr>
          <a:xfrm flipV="1">
            <a:off x="3216240" y="6095880"/>
            <a:ext cx="2709720" cy="50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WordArt 8"/>
          <p:cNvSpPr txBox="1"/>
          <p:nvPr/>
        </p:nvSpPr>
        <p:spPr>
          <a:xfrm>
            <a:off x="5791320" y="2209680"/>
            <a:ext cx="2666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 Did This!"/>
              </a:rPr>
              <a:t>decreases</a:t>
            </a:r>
            <a:endParaRPr b="0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 Did This!"/>
              <a:ea typeface="I Did This!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3390840" y="3733920"/>
            <a:ext cx="2362320" cy="2209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8"/>
          <p:cNvSpPr/>
          <p:nvPr/>
        </p:nvSpPr>
        <p:spPr>
          <a:xfrm>
            <a:off x="5105520" y="3276720"/>
            <a:ext cx="297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emperature increases and density de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5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WordArt 3"/>
          <p:cNvSpPr txBox="1"/>
          <p:nvPr/>
        </p:nvSpPr>
        <p:spPr>
          <a:xfrm>
            <a:off x="1620720" y="228600"/>
            <a:ext cx="590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5560">
                  <a:solidFill>
                    <a:srgbClr val="fefde3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Graphical Relationships</a:t>
            </a:r>
            <a:endParaRPr b="0" lang="en-US" sz="2800" spc="1" strike="noStrike">
              <a:ln w="25560">
                <a:solidFill>
                  <a:srgbClr val="fefde3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1437120" y="1599840"/>
            <a:ext cx="42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yclic Relationship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1371600" y="220860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one variable increases, th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6"/>
          <p:cNvSpPr/>
          <p:nvPr/>
        </p:nvSpPr>
        <p:spPr>
          <a:xfrm>
            <a:off x="2124000" y="4105440"/>
            <a:ext cx="9720" cy="24098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7"/>
          <p:cNvSpPr/>
          <p:nvPr/>
        </p:nvSpPr>
        <p:spPr>
          <a:xfrm flipV="1">
            <a:off x="2133720" y="6476760"/>
            <a:ext cx="4784760" cy="46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WordArt 8"/>
          <p:cNvSpPr txBox="1"/>
          <p:nvPr/>
        </p:nvSpPr>
        <p:spPr>
          <a:xfrm>
            <a:off x="1523880" y="2819520"/>
            <a:ext cx="6705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 Did This!"/>
              </a:rPr>
              <a:t>changes in a predictable patter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 Did This!"/>
              <a:ea typeface="I Did This!"/>
            </a:endParaRPr>
          </a:p>
        </p:txBody>
      </p:sp>
      <p:sp>
        <p:nvSpPr>
          <p:cNvPr id="371" name="Freeform 10"/>
          <p:cNvSpPr/>
          <p:nvPr/>
        </p:nvSpPr>
        <p:spPr>
          <a:xfrm>
            <a:off x="2133720" y="4343400"/>
            <a:ext cx="4419360" cy="2146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1"/>
          <p:cNvSpPr/>
          <p:nvPr/>
        </p:nvSpPr>
        <p:spPr>
          <a:xfrm>
            <a:off x="1478520" y="3427920"/>
            <a:ext cx="70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s that are cyclic are also 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WordArt 12"/>
          <p:cNvSpPr txBox="1"/>
          <p:nvPr/>
        </p:nvSpPr>
        <p:spPr>
          <a:xfrm>
            <a:off x="5334120" y="3505320"/>
            <a:ext cx="25905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 Did This!"/>
              </a:rPr>
              <a:t>predictabl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 Did This!"/>
              <a:ea typeface="I Did This!"/>
            </a:endParaRPr>
          </a:p>
        </p:txBody>
      </p:sp>
      <p:sp>
        <p:nvSpPr>
          <p:cNvPr id="374" name="Rectangle 10"/>
          <p:cNvSpPr/>
          <p:nvPr/>
        </p:nvSpPr>
        <p:spPr>
          <a:xfrm>
            <a:off x="6248520" y="41911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des, moon p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WordArt 3"/>
          <p:cNvSpPr txBox="1"/>
          <p:nvPr/>
        </p:nvSpPr>
        <p:spPr>
          <a:xfrm>
            <a:off x="1620720" y="228600"/>
            <a:ext cx="590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5560">
                  <a:solidFill>
                    <a:srgbClr val="fefde3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Graphical Relationships</a:t>
            </a:r>
            <a:endParaRPr b="0" lang="en-US" sz="2800" spc="1" strike="noStrike">
              <a:ln w="25560">
                <a:solidFill>
                  <a:srgbClr val="fefde3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474200" y="1599840"/>
            <a:ext cx="35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 Relationship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1384200" y="2284920"/>
            <a:ext cx="76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one variable increases, the other ______________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6"/>
          <p:cNvSpPr/>
          <p:nvPr/>
        </p:nvSpPr>
        <p:spPr>
          <a:xfrm>
            <a:off x="3181320" y="3719520"/>
            <a:ext cx="9720" cy="24098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7"/>
          <p:cNvSpPr/>
          <p:nvPr/>
        </p:nvSpPr>
        <p:spPr>
          <a:xfrm flipV="1">
            <a:off x="3200400" y="6095880"/>
            <a:ext cx="2709720" cy="50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WordArt 8"/>
          <p:cNvSpPr txBox="1"/>
          <p:nvPr/>
        </p:nvSpPr>
        <p:spPr>
          <a:xfrm>
            <a:off x="5486400" y="1905120"/>
            <a:ext cx="3352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 Did This!"/>
              </a:rPr>
              <a:t>stays the same</a:t>
            </a:r>
            <a:endParaRPr b="0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 Did This!"/>
              <a:ea typeface="I Did This!"/>
            </a:endParaRPr>
          </a:p>
        </p:txBody>
      </p:sp>
      <p:sp>
        <p:nvSpPr>
          <p:cNvPr id="381" name="Line 10"/>
          <p:cNvSpPr/>
          <p:nvPr/>
        </p:nvSpPr>
        <p:spPr>
          <a:xfrm>
            <a:off x="3429000" y="480060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77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5" dur="770" fill="hold"/>
                                        <p:tgtEl>
                                          <p:spTgt spid="3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7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9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5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WordArt 3"/>
          <p:cNvSpPr txBox="1"/>
          <p:nvPr/>
        </p:nvSpPr>
        <p:spPr>
          <a:xfrm>
            <a:off x="1600200" y="228600"/>
            <a:ext cx="590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5560">
                  <a:solidFill>
                    <a:srgbClr val="fefde3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Graphical Relationships in Words</a:t>
            </a:r>
            <a:endParaRPr b="0" lang="en-US" sz="2800" spc="1" strike="noStrike">
              <a:ln w="25560">
                <a:solidFill>
                  <a:srgbClr val="fefde3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384" name="AutoShape 4"/>
          <p:cNvSpPr/>
          <p:nvPr/>
        </p:nvSpPr>
        <p:spPr>
          <a:xfrm>
            <a:off x="6095880" y="2133720"/>
            <a:ext cx="3048120" cy="1676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tate in words the relationship between air temperature and relative humid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6"/>
          <p:cNvSpPr/>
          <p:nvPr/>
        </p:nvSpPr>
        <p:spPr>
          <a:xfrm>
            <a:off x="6019920" y="4114800"/>
            <a:ext cx="2971800" cy="2133720"/>
          </a:xfrm>
          <a:prstGeom prst="roundRect">
            <a:avLst>
              <a:gd name="adj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6280200" y="4267080"/>
            <a:ext cx="286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the air temperature increases, the relative humidity de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9" descr=""/>
          <p:cNvPicPr/>
          <p:nvPr/>
        </p:nvPicPr>
        <p:blipFill>
          <a:blip r:embed="rId2"/>
          <a:stretch/>
        </p:blipFill>
        <p:spPr>
          <a:xfrm>
            <a:off x="144360" y="2452680"/>
            <a:ext cx="59086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1371600" y="356760"/>
            <a:ext cx="678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table below shows the amount of water vapor, in grams per cubic meter, that will saturate 1 cubic meter of air at different tempera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1" descr=""/>
          <p:cNvPicPr/>
          <p:nvPr/>
        </p:nvPicPr>
        <p:blipFill>
          <a:blip r:embed="rId1">
            <a:grayscl/>
          </a:blip>
          <a:srcRect l="0" t="0" r="4000" b="0"/>
          <a:stretch/>
        </p:blipFill>
        <p:spPr>
          <a:xfrm>
            <a:off x="990720" y="1295280"/>
            <a:ext cx="3724200" cy="388620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4"/>
          <p:cNvSpPr/>
          <p:nvPr/>
        </p:nvSpPr>
        <p:spPr>
          <a:xfrm>
            <a:off x="1066680" y="5427000"/>
            <a:ext cx="8382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grid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 line graph of the data following the directions bel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the name of the correct variable along th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xis. Include the correct un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 an appropriate numerical scale showing equal intervals along th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x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t the amount of water that will saturate 1 cubic meter of air at the temperatures shown in the data table. Connect the points with a smooth, curved l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2">
            <a:grayscl/>
          </a:blip>
          <a:srcRect l="2857" t="0" r="0" b="5333"/>
          <a:stretch/>
        </p:blipFill>
        <p:spPr>
          <a:xfrm>
            <a:off x="4724280" y="1066680"/>
            <a:ext cx="419112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"/>
          <p:cNvPicPr/>
          <p:nvPr/>
        </p:nvPicPr>
        <p:blipFill>
          <a:blip r:embed="rId1">
            <a:grayscl/>
          </a:blip>
          <a:srcRect l="3810" t="0" r="0" b="2105"/>
          <a:stretch/>
        </p:blipFill>
        <p:spPr>
          <a:xfrm>
            <a:off x="1295280" y="326880"/>
            <a:ext cx="70866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990720" y="2617920"/>
            <a:ext cx="7924680" cy="424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4" name=""/>
          <p:cNvGraphicFramePr/>
          <p:nvPr/>
        </p:nvGraphicFramePr>
        <p:xfrm>
          <a:off x="1219320" y="1295280"/>
          <a:ext cx="7086600" cy="1327320"/>
        </p:xfrm>
        <a:graphic>
          <a:graphicData uri="http://schemas.openxmlformats.org/drawingml/2006/table">
            <a:tbl>
              <a:tblPr/>
              <a:tblGrid>
                <a:gridCol w="1415880"/>
                <a:gridCol w="830160"/>
                <a:gridCol w="1441440"/>
                <a:gridCol w="1008360"/>
                <a:gridCol w="1682640"/>
                <a:gridCol w="7081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ss (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 (cm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Rectangle 174"/>
          <p:cNvSpPr/>
          <p:nvPr/>
        </p:nvSpPr>
        <p:spPr>
          <a:xfrm>
            <a:off x="0" y="37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79"/>
          <p:cNvSpPr/>
          <p:nvPr/>
        </p:nvSpPr>
        <p:spPr>
          <a:xfrm>
            <a:off x="1295280" y="228600"/>
            <a:ext cx="677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Graph the following data of a sample of a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State the graphical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What is the dens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523520" y="1676520"/>
            <a:ext cx="632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t is an observation because you used y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ens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of Sight to make tha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ake an Observation using your five senses about something in the classroom, Write it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221304"/>
                </a:solidFill>
                <a:uFillTx/>
                <a:latin typeface="Century Gothic"/>
              </a:rPr>
              <a:t>Inferences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An Inference is an Educated guess, based on your observ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It will rain today. That is an inference WH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5335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t is an inference because it’s only a guess/predi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five senses were not used to determine that it WILL 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f You said it 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aining, would it still be an infer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22:39:53Z</dcterms:created>
  <dc:creator>ADRIANA</dc:creator>
  <dc:description/>
  <dc:language>en-US</dc:language>
  <cp:lastModifiedBy>Daniel Fanelli</cp:lastModifiedBy>
  <dcterms:modified xsi:type="dcterms:W3CDTF">2012-11-07T15:09:34Z</dcterms:modified>
  <cp:revision>137</cp:revision>
  <dc:subject/>
  <dc:title>Observation Vs. Inference</dc:title>
</cp:coreProperties>
</file>